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34213" cy="9194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34400" cy="919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985920" y="-3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-36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3985920" y="8733960"/>
            <a:ext cx="3049560" cy="4604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EFEA93B-BDB7-47B7-8956-5ACBDBBB36E1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D1661507-AF82-4EDA-BF0B-A64F8ACC6260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60236DD3-A2EC-4D18-8D87-93B85B7012E4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39D8CDC7-8769-444D-9323-498C442D161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A948616D-C829-4D44-9AE4-4DE792A1E157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86280" y="8734320"/>
            <a:ext cx="30495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1CD20A6-D589-4CB2-A4F7-BB459B8A4663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19320" y="689040"/>
            <a:ext cx="4597200" cy="344808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38160" y="4367160"/>
            <a:ext cx="515952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8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0"/>
          <p:cNvSpPr/>
          <p:nvPr/>
        </p:nvSpPr>
        <p:spPr>
          <a:xfrm>
            <a:off x="7547040" y="133200"/>
            <a:ext cx="1469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4" marL="1762200" indent="-171360">
              <a:lnSpc>
                <a:spcPct val="88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5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6" marL="1762200" indent="-171360">
              <a:lnSpc>
                <a:spcPct val="88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5" name="Picture 26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Update 2010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Allen R. Sanders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0" algn="ctr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SCI Institute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 algn="ctr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University of Utah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Fusion SAP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hree year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Utah, ORNL, and LBN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0">
              <a:lnSpc>
                <a:spcPct val="88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upport common analysis and visualizations needs with fus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Particle Analysis and Visualization (integration of fastbit for query based analysis)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Magnetic Island Analysis and Visualization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Comparative Visualization (Experiment to Simulation and Simulation to Simulation)  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271440" y="945720"/>
            <a:ext cx="8609040" cy="5297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Particles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o supply tools to facilitate the study the affects of turbulence on the trapping state and radial diffusion of particles. Outward radial diffusion is heat transport which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Querying based visualization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integration of Fastbit into VisIt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verters and indexing tools for GTC and XGC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Readers – H5Part and HDUF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VisIt to supper Queries and Particle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Persistent Partical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Two remaining effor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Interface for query sel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umulative querie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71440" y="933480"/>
            <a:ext cx="8609040" cy="531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Magnetic Island Analysis and Visualiz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Goal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Visualizing the magnetic field topology is necessary to the understanding how the plasma energy is deposited on the material wall. Energy (i.e. heat) on the wall is bad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Deployed 1.12.2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Topological analysis of the magnetic field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streamline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continue streamline integra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add additional seeds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Hardening of analysis code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aptive streamline length 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ddition of more robust O point detection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Integration of M3D C1 Element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visualize scalar/vector data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Construct Poincaré plots.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3" marL="1476360" indent="0">
              <a:lnSpc>
                <a:spcPct val="88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77240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  <p:sp>
        <p:nvSpPr>
          <p:cNvPr id="60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4" descr="poincare_poster_4c"/>
          <p:cNvPicPr/>
          <p:nvPr/>
        </p:nvPicPr>
        <p:blipFill>
          <a:blip r:embed="rId2"/>
          <a:stretch/>
        </p:blipFill>
        <p:spPr>
          <a:xfrm>
            <a:off x="4386240" y="1676520"/>
            <a:ext cx="23209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poincare_poster_4b"/>
          <p:cNvPicPr/>
          <p:nvPr/>
        </p:nvPicPr>
        <p:blipFill>
          <a:blip r:embed="rId3"/>
          <a:stretch/>
        </p:blipFill>
        <p:spPr>
          <a:xfrm>
            <a:off x="2052720" y="1676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poincare_poster_4d"/>
          <p:cNvPicPr/>
          <p:nvPr/>
        </p:nvPicPr>
        <p:blipFill>
          <a:blip r:embed="rId4"/>
          <a:stretch/>
        </p:blipFill>
        <p:spPr>
          <a:xfrm>
            <a:off x="2052720" y="3962520"/>
            <a:ext cx="2322360" cy="22860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poincare_poster_4a"/>
          <p:cNvPicPr/>
          <p:nvPr/>
        </p:nvPicPr>
        <p:blipFill>
          <a:blip r:embed="rId5"/>
          <a:stretch/>
        </p:blipFill>
        <p:spPr>
          <a:xfrm>
            <a:off x="4386240" y="3962520"/>
            <a:ext cx="2322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4440"/>
            <a:ext cx="7772400" cy="8478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5" descr="IslandsInIslands2.png"/>
          <p:cNvPicPr/>
          <p:nvPr/>
        </p:nvPicPr>
        <p:blipFill>
          <a:blip r:embed="rId1"/>
          <a:stretch/>
        </p:blipFill>
        <p:spPr>
          <a:xfrm>
            <a:off x="4125960" y="2028960"/>
            <a:ext cx="4051080" cy="3784320"/>
          </a:xfrm>
          <a:prstGeom prst="rect">
            <a:avLst/>
          </a:prstGeom>
          <a:ln w="0">
            <a:noFill/>
          </a:ln>
        </p:spPr>
      </p:pic>
      <p:pic>
        <p:nvPicPr>
          <p:cNvPr id="68" name="Content Placeholder 7" descr="IslandsInIslands1.png"/>
          <p:cNvPicPr/>
          <p:nvPr/>
        </p:nvPicPr>
        <p:blipFill>
          <a:blip r:embed="rId2"/>
          <a:stretch/>
        </p:blipFill>
        <p:spPr>
          <a:xfrm>
            <a:off x="531720" y="1676520"/>
            <a:ext cx="2778120" cy="4419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9696"/>
            </a:gs>
            <a:gs pos="100000">
              <a:srgbClr val="45454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8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mparative Visualization Cont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285840" indent="-285840">
              <a:lnSpc>
                <a:spcPct val="88000"/>
              </a:lnSpc>
              <a:spcBef>
                <a:spcPts val="1049"/>
              </a:spcBef>
              <a:buClr>
                <a:srgbClr val="ffe05b"/>
              </a:buClr>
              <a:buSzPct val="25000"/>
              <a:buFont typeface="Wingding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5b"/>
                </a:solidFill>
                <a:latin typeface="Arial"/>
              </a:rPr>
              <a:t>Experiment to Simulation</a:t>
            </a:r>
            <a:endParaRPr b="0" lang="en-US" sz="2800" spc="-1" strike="noStrike">
              <a:solidFill>
                <a:srgbClr val="ffe05b"/>
              </a:solidFill>
              <a:latin typeface="Arial"/>
            </a:endParaRPr>
          </a:p>
          <a:p>
            <a:pPr lvl="1" marL="744480" indent="-280800">
              <a:lnSpc>
                <a:spcPct val="88000"/>
              </a:lnSpc>
              <a:spcBef>
                <a:spcPts val="901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</a:rPr>
              <a:t>Synthetic diagnostics</a:t>
            </a:r>
            <a:endParaRPr b="0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Experimental Data stored in MDSplus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3" marL="1476360" indent="-171360">
              <a:lnSpc>
                <a:spcPct val="88000"/>
              </a:lnSpc>
              <a:spcBef>
                <a:spcPts val="524"/>
              </a:spcBef>
              <a:buClr>
                <a:srgbClr val="ffff66"/>
              </a:buClr>
              <a:buSzPct val="7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Arial"/>
              </a:rPr>
              <a:t>Ability to get not only data but physical geometry</a:t>
            </a:r>
            <a:endParaRPr b="1" lang="en-US" sz="1400" spc="-1" strike="noStrike">
              <a:solidFill>
                <a:srgbClr val="ffff66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Requires MDSplus interface within VisIt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Ability perform integration of simulation data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-276120">
              <a:lnSpc>
                <a:spcPct val="88000"/>
              </a:lnSpc>
              <a:spcBef>
                <a:spcPts val="751"/>
              </a:spcBef>
              <a:buClr>
                <a:srgbClr val="ffff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Use cases might require custom queries.</a:t>
            </a: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  <a:p>
            <a:pPr lvl="2" marL="1190520" indent="0">
              <a:lnSpc>
                <a:spcPct val="88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5470560" y="14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4:21:08Z</dcterms:created>
  <dc:creator>David Weinstein</dc:creator>
  <dc:description/>
  <dc:language>en-US</dc:language>
  <cp:lastModifiedBy>Allen Sanderson</cp:lastModifiedBy>
  <cp:lastPrinted>2002-07-07T18:28:39Z</cp:lastPrinted>
  <dcterms:modified xsi:type="dcterms:W3CDTF">2010-04-15T15:21:21Z</dcterms:modified>
  <cp:revision>1313</cp:revision>
  <dc:subject/>
  <dc:title>Geometric Modeling</dc:title>
</cp:coreProperties>
</file>